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0CB-6F66-47CA-A767-A41E352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F87-A3C1-4EB0-898C-B3CB3FEA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FF7-68DC-49F6-ADE4-1020EDE6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428-B335-4D72-BB7D-77852D71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957-EEA1-4C29-9A6B-4EE861C6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33D-0C1F-4CC1-AAE5-789A992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512-25A1-41F4-A1B2-4F6742F0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47B-CA09-49EC-90D7-8B5AE74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6B0-36B6-4A1C-BB21-E478E00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BF6-E0DE-4240-ACBA-3573747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2E9-8470-41E6-8264-D0B5CF8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6D9-D016-4131-9419-06E3BCB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6F4-0D52-4D23-BA37-B1A1048C42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anhattan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nda Fa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ia Mo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ust 1942- the creation of the Manhattan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1942- Construction of Bom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2, 1942- Fermi gave the order to withdraw the control r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6, 1945 at 5:30- the  Trinity Test at Alamogordo, New 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59100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4191120"/>
            <a:ext cx="136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kk.org/ct2/fatman.gi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Building the Bomb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construction didn’t start until September 1942. General Groves had to pick station to build the bombs. Also scientists to work on building. It was a long process, but in the end it was all worth it to see that World War II e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7204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4120" y="3400560"/>
            <a:ext cx="121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cs.cmu.ed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it was M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truction  cites had two lo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kridge, Tennes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ford, Washing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924360" cy="250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867280" y="4191120"/>
            <a:ext cx="17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rootsweb.ancestry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involved to create i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scientists Enrico Fermi and Arthur Compton was building the atomic p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ur H. Comp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Moore- chief engin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Doan- Director of the Metallurgical Labora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n Hierry- associate project dir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352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946120" y="5181480"/>
            <a:ext cx="12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3rd1000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e bomb would be used for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bomb would have been used for defeating Hitler and his army.  German surrender to the Soviets on May 8, in the year 19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68720" y="6172200"/>
            <a:ext cx="15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metaldetectingworld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the plans Change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was able to hold out for few months and was getting prepared for a desperate and bloody defense in the incident of an American attack. Atomic bombs were bombarded on Hiroshima and Nagasaki on sixth and ninth August, in the year 19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65120" y="6172200"/>
            <a:ext cx="162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midmajority.com/im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they Dropped the bomb on Hiroshima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ecided to use it on Japan who wouldn’t go down without a fight so the plane Enola Gay dropped the bomb on Hiroshima. Atomic bombs were bombarded on Hiroshima and Nagasaki on sixth and ninth August, in the year 19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84600" y="6172200"/>
            <a:ext cx="22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historicalresources.files.wordpress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Bibloiograph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Kain, Mark, ed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king and Using the Atomic Bom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N.p.: Greenhavan Pres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2003. N. pag. Pri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5:06:44Z</dcterms:created>
  <dc:creator>30860</dc:creator>
  <dc:description/>
  <dc:language>en-US</dc:language>
  <cp:lastModifiedBy>30860</cp:lastModifiedBy>
  <dcterms:modified xsi:type="dcterms:W3CDTF">2009-12-16T17:58:56Z</dcterms:modified>
  <cp:revision>10</cp:revision>
  <dc:subject/>
  <dc:title>Manhattan Project</dc:title>
</cp:coreProperties>
</file>